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0A5-E578-4E27-B0C6-84297E9D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674-8F95-4288-890C-1CB9883E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70C-BD9B-4B4F-8579-ACC9DBE7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B3E-6104-43F4-B0B7-0EA005EC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420-EB25-4D3A-B2C3-8EA69215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795-D301-47F6-ABC5-FB85DD75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141-9FDF-43AC-97E4-210B765B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D56-7704-471D-9215-94FD145F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E50-A029-4A93-A779-F9BFE0AC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EFC-399A-4F32-887C-33987453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7B1-B305-41D9-9757-6522486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BD5-5454-4A7B-B247-120752FC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1E30-6922-46A9-A5B2-209A6E9FBB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2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848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jul</cp:lastModifiedBy>
  <dcterms:modified xsi:type="dcterms:W3CDTF">2016-05-10T08:07:04Z</dcterms:modified>
  <cp:revision>46</cp:revision>
  <dc:subject/>
  <dc:title>Слайд 1</dc:title>
</cp:coreProperties>
</file>