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5EF-1A97-4358-BE80-83EC2706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7C4-EB9E-46DB-97A5-20D1F5BE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2D6-CFA1-4EC0-B4C3-25BDFE1D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DAC-12CA-43F3-85E2-4844A7A3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409-EC06-4330-ACD6-7F1CC15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19E-ED86-4DDD-9EEE-BD491B76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6BA-FD31-42D1-9499-0417E38E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ACD-C954-4D0D-A187-9C025498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8D0-6D83-40D6-8A5A-C48DADA7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1D4-A821-487C-93C6-C92F04F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D85-C9CA-47E4-B07B-20DADAB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D92-3A83-476A-BA59-2578F4D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8163-1F21-40FF-B6C8-117E308F7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标题 3" descr=""/>
          <p:cNvPicPr/>
          <p:nvPr/>
        </p:nvPicPr>
        <p:blipFill>
          <a:blip r:embed="rId2"/>
          <a:stretch/>
        </p:blipFill>
        <p:spPr>
          <a:xfrm>
            <a:off x="3432240" y="103320"/>
            <a:ext cx="47973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3" descr=""/>
          <p:cNvPicPr/>
          <p:nvPr/>
        </p:nvPicPr>
        <p:blipFill>
          <a:blip r:embed="rId2"/>
          <a:stretch/>
        </p:blipFill>
        <p:spPr>
          <a:xfrm>
            <a:off x="2212920" y="841320"/>
            <a:ext cx="48164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jul</cp:lastModifiedBy>
  <dcterms:modified xsi:type="dcterms:W3CDTF">2016-05-07T09:22:33Z</dcterms:modified>
  <cp:revision>5</cp:revision>
  <dc:subject/>
  <dc:title>Slide 1</dc:title>
</cp:coreProperties>
</file>