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A8B-23B8-48E5-8CAA-A73BF7F1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375-9605-4DBB-8D4A-F60989B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1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11A-1E89-469B-9CC8-FD86AA7C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75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75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226-1CB9-4D77-B1E1-108324AE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AEEF-F2DC-4B76-9143-FBFF75F1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40A1-0A2F-47D0-9F0F-1C6B4F5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5220-A035-4D8F-AA34-922676A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AD1B-265B-487F-BA01-ED136471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239-A6B0-45A9-A8AE-B679189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604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7933-5ECF-4884-B2CF-92A06E5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E9C-34CD-4C42-9C21-C8D6FFD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744-AF1C-4DA5-8A07-9FCF2B9C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21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3AA-DA2B-4065-B59B-60E3A05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7E7-E8FC-4304-8D4A-34DA771F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512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F381-93FB-429A-8FFC-29465E4C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21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F42-963E-438C-BA20-7BAC8F39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75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512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75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A979-1EE7-41E7-B542-38B8619E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5F9-7EAE-47DC-8126-ED6CDD59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90A-D782-4420-9D6B-F9BB3D86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A5D-21F8-47AC-AD1E-152D962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955-2EDF-4062-8E9E-0F7AFD0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E4E-3E9B-4C45-BEBB-99E63531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1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EFF-DC59-44F3-B5E6-531B097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1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340-EE33-478E-8EFA-9C3447D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EE6-678F-4514-8554-545226B72E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512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AD8D-D2B3-4007-B975-962D76C7D8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6320" y="619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головок слайда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40000" y="1486080"/>
            <a:ext cx="6400800" cy="8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заголовок слай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ubTitle"/>
          </p:nvPr>
        </p:nvSpPr>
        <p:spPr>
          <a:xfrm>
            <a:off x="2340000" y="1486080"/>
            <a:ext cx="640080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604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головок слайда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60480" y="149544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 слай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32:48Z</dcterms:created>
  <dc:creator/>
  <dc:description/>
  <cp:keywords/>
  <dc:language>en-US</dc:language>
  <cp:lastModifiedBy>Волошина</cp:lastModifiedBy>
  <cp:lastPrinted>1899-12-30T00:00:00Z</cp:lastPrinted>
  <dcterms:modified xsi:type="dcterms:W3CDTF">2017-07-28T13:42:55Z</dcterms:modified>
  <cp:revision>336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