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18F-5DD8-4DDD-8206-5179BA3F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F8F-518F-4508-8527-B0E1E5B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6E4-36F1-4B74-829E-874940B5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487-19C1-43AD-81EB-3FB11128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3A6-3E0D-49A2-BECA-1C09EB0B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E84-385D-4FD9-A3C1-7D7FC08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6E4-4157-45A1-AAC9-478E1D44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E49-CC60-4036-94DD-455ECF6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603-D0C4-4FD2-B6C9-A3ACDCBE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CD8-0697-4093-9342-B162CF1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306-B18E-43D8-8BBF-3B3A57E2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AE6-E170-4046-872A-00115F3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066-ACF5-4646-81ED-D9E4289F5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Заголовок слайда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448000" y="3906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дзаголовок слай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оловок слайд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592280" y="2408400"/>
            <a:ext cx="57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e6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оловок слайд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Волошина</cp:lastModifiedBy>
  <dcterms:modified xsi:type="dcterms:W3CDTF">2017-07-28T11:30:35Z</dcterms:modified>
  <cp:revision>7</cp:revision>
  <dc:subject/>
  <dc:title>Слайд 1</dc:title>
</cp:coreProperties>
</file>