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86c0"/>
                </a:solidFill>
                <a:latin typeface="Microsoft Sans Serif"/>
              </a:rPr>
              <a:t>Click to move the slide</a:t>
            </a:r>
            <a:endParaRPr b="0" lang="en-US" sz="4400" spc="-1" strike="noStrike">
              <a:solidFill>
                <a:srgbClr val="1c86c0"/>
              </a:solidFill>
              <a:latin typeface="Microsoft Sans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5E3C4-76CE-41A5-A153-3DADDE010A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BC59B-93BA-45F3-A7A3-F83DCF6BB3F2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8D62B-47BE-4B93-8E79-213E8F063E9F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EC63C-F4C4-47E9-9CA1-E8B3F1FB3D23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2880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86c0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828800" y="2133360"/>
            <a:ext cx="7315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828800" y="4362120"/>
            <a:ext cx="7315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80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86c0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8800" y="213336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77480" y="213336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828800" y="436212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577480" y="436212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2880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86c0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828800" y="213336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02000" y="213336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775200" y="213336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828800" y="436212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302000" y="436212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775200" y="436212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82880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86c0"/>
              </a:solidFill>
              <a:latin typeface="Microsoft Sans Serif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828800" y="21333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2880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86c0"/>
              </a:solidFill>
              <a:latin typeface="Microsoft Sans Serif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828800" y="21333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2880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86c0"/>
              </a:solidFill>
              <a:latin typeface="Microsoft Sans Serif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828800" y="213336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577480" y="213336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2880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86c0"/>
              </a:solidFill>
              <a:latin typeface="Microsoft Sans Serif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828800" y="137124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2880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86c0"/>
              </a:solidFill>
              <a:latin typeface="Microsoft Sans Serif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828800" y="213336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577480" y="213336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828800" y="436212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82880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86c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828800" y="21333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86c0"/>
              </a:solidFill>
              <a:latin typeface="Microsoft Sans Serif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828800" y="213336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577480" y="213336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577480" y="436212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2880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86c0"/>
              </a:solidFill>
              <a:latin typeface="Microsoft Sans Serif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828800" y="213336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577480" y="213336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828800" y="4362120"/>
            <a:ext cx="7315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2880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86c0"/>
              </a:solidFill>
              <a:latin typeface="Microsoft Sans Serif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828800" y="2133360"/>
            <a:ext cx="7315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828800" y="4362120"/>
            <a:ext cx="7315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2880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86c0"/>
              </a:solidFill>
              <a:latin typeface="Microsoft Sans Serif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828800" y="213336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577480" y="213336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828800" y="436212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577480" y="436212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82880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86c0"/>
              </a:solidFill>
              <a:latin typeface="Microsoft Sans Serif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828800" y="213336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302000" y="213336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775200" y="213336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828800" y="436212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302000" y="436212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775200" y="436212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82880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86c0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828800" y="21333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2880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86c0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828800" y="213336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577480" y="213336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86c0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828800" y="137124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2880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86c0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828800" y="213336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577480" y="213336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828800" y="436212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2880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86c0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828800" y="213336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577480" y="213336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577480" y="436212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2880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86c0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828800" y="213336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577480" y="213336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828800" y="4362120"/>
            <a:ext cx="7315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800" y="13712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86c0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1c86c0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8800" y="21333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828800" y="13712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86c0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1c86c0"/>
              </a:solidFill>
              <a:latin typeface="Microsoft Sans Serif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828800" y="21333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114800" y="304920"/>
            <a:ext cx="4648320" cy="7048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9bafa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icrosoft Sans Serif"/>
              </a:rPr>
              <a:t>Название слайда</a:t>
            </a:r>
            <a:endParaRPr b="0" lang="en-US" sz="3600" spc="-1" strike="noStrike">
              <a:solidFill>
                <a:srgbClr val="1c86c0"/>
              </a:solidFill>
              <a:latin typeface="Microsoft Sans Serif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114800" y="990360"/>
            <a:ext cx="4648320" cy="685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9bafa"/>
            </a:outerShdw>
          </a:effectLst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icrosoft Sans Serif"/>
              </a:rPr>
              <a:t>Описание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57040" y="457200"/>
            <a:ext cx="7086600" cy="792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b3dcb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c86c0"/>
                </a:solidFill>
                <a:latin typeface="Microsoft Sans Serif"/>
              </a:rPr>
              <a:t>Название слайда</a:t>
            </a:r>
            <a:endParaRPr b="0" lang="en-US" sz="4400" spc="-1" strike="noStrike">
              <a:solidFill>
                <a:srgbClr val="1c86c0"/>
              </a:solidFill>
              <a:latin typeface="Microsoft Sans Serif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133720" y="1371240"/>
            <a:ext cx="6705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f5f5f"/>
                </a:solidFill>
                <a:latin typeface="Verdana"/>
                <a:ea typeface="굴림"/>
              </a:rPr>
              <a:t> 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f5f5f"/>
                </a:solidFill>
                <a:latin typeface="Verdana"/>
                <a:ea typeface="굴림"/>
              </a:rPr>
              <a:t> 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f5f5f"/>
                </a:solidFill>
                <a:latin typeface="Verdana"/>
                <a:ea typeface="굴림"/>
              </a:rPr>
              <a:t> 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f5f5f"/>
                </a:solidFill>
                <a:latin typeface="Verdana"/>
                <a:ea typeface="굴림"/>
              </a:rPr>
              <a:t> 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69343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c86c0"/>
                </a:solidFill>
                <a:latin typeface="Microsoft Sans Serif"/>
              </a:rPr>
              <a:t>Название слайда</a:t>
            </a:r>
            <a:endParaRPr b="0" lang="en-US" sz="4000" spc="-1" strike="noStrike">
              <a:solidFill>
                <a:srgbClr val="1c86c0"/>
              </a:solidFill>
              <a:latin typeface="Microsoft Sans Serif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981080" y="1447560"/>
            <a:ext cx="69343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f5f5f"/>
                </a:solidFill>
                <a:latin typeface="Verdana"/>
                <a:ea typeface="굴림"/>
              </a:rPr>
              <a:t> 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f5f5f"/>
                </a:solidFill>
                <a:latin typeface="Verdana"/>
                <a:ea typeface="굴림"/>
              </a:rPr>
              <a:t> 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f5f5f"/>
                </a:solidFill>
                <a:latin typeface="Verdana"/>
                <a:ea typeface="굴림"/>
              </a:rPr>
              <a:t> 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0T05:06:43Z</dcterms:created>
  <dc:creator>SmileTemplates.com</dc:creator>
  <dc:description/>
  <dc:language>en-US</dc:language>
  <cp:lastModifiedBy>punsh</cp:lastModifiedBy>
  <dcterms:modified xsi:type="dcterms:W3CDTF">2019-07-28T08:42:49Z</dcterms:modified>
  <cp:revision>103</cp:revision>
  <dc:subject/>
  <dc:title>Название слайда</dc:title>
</cp:coreProperties>
</file>