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956A-3772-40BB-8EE4-BBFA03FDE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5880-63D4-4250-BF3A-9A58ABA3A60A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6567-9C15-4A60-ABEC-CD7E038AD967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288D-6CE4-4D7F-8E27-37CC5691D2A3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280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15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66680" y="4465080"/>
            <a:ext cx="7315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280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15360" y="251460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46508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15360" y="446508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280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235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39880" y="2514600"/>
            <a:ext cx="235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3080" y="2514600"/>
            <a:ext cx="235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66680" y="4465080"/>
            <a:ext cx="235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39880" y="4465080"/>
            <a:ext cx="235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3080" y="4465080"/>
            <a:ext cx="235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80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680" y="2514600"/>
            <a:ext cx="73152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280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15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280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3569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5360" y="2514600"/>
            <a:ext cx="3569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80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280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5360" y="2514600"/>
            <a:ext cx="3569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066680" y="446508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2280" y="280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66680" y="2514600"/>
            <a:ext cx="73152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280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3569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5360" y="251460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5360" y="446508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280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5360" y="251460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4465080"/>
            <a:ext cx="7315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280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15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066680" y="4465080"/>
            <a:ext cx="7315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280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5360" y="251460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66680" y="446508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5360" y="446508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280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235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39880" y="2514600"/>
            <a:ext cx="235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13080" y="2514600"/>
            <a:ext cx="235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066680" y="4465080"/>
            <a:ext cx="235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539880" y="4465080"/>
            <a:ext cx="235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13080" y="4465080"/>
            <a:ext cx="235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280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15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280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3569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15360" y="2514600"/>
            <a:ext cx="3569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280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280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5360" y="2514600"/>
            <a:ext cx="3569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66680" y="446508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280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3569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5360" y="251460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15360" y="446508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280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5360" y="251460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680" y="4465080"/>
            <a:ext cx="7315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2514600"/>
            <a:ext cx="7315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668520" indent="-2570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028520" indent="-20556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440000" indent="-20556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1851480" indent="-20556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1851480" indent="-20556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1851480" indent="-20556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7"/>
          <p:cNvSpPr/>
          <p:nvPr/>
        </p:nvSpPr>
        <p:spPr>
          <a:xfrm>
            <a:off x="0" y="4495680"/>
            <a:ext cx="5029200" cy="12193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066680" y="2514600"/>
            <a:ext cx="7315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668520" indent="-2570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028520" indent="-20556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440000" indent="-20556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1851480" indent="-20556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1851480" indent="-20556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1851480" indent="-20556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4533840"/>
            <a:ext cx="4648320" cy="704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6fc8"/>
                </a:solidFill>
                <a:latin typeface="Microsoft Sans Serif"/>
              </a:rPr>
              <a:t>Название слайда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76120" y="5105160"/>
            <a:ext cx="4648320" cy="685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6fc8"/>
                </a:solidFill>
                <a:latin typeface="Microsoft Sans Serif"/>
              </a:rPr>
              <a:t>Описание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7086600" cy="792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16fc8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Название слайда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57480" y="2514240"/>
            <a:ext cx="68198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d4d4d"/>
                </a:solidFill>
                <a:latin typeface="Verdana"/>
                <a:ea typeface="굴림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d4d4d"/>
                </a:solidFill>
                <a:latin typeface="Verdana"/>
                <a:ea typeface="굴림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d4d4d"/>
                </a:solidFill>
                <a:latin typeface="Verdana"/>
                <a:ea typeface="굴림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d4d4d"/>
                </a:solidFill>
                <a:latin typeface="Verdana"/>
                <a:ea typeface="굴림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81080" y="6854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16fc8"/>
                </a:solidFill>
                <a:latin typeface="Microsoft Sans Serif"/>
              </a:rPr>
              <a:t>Название слайда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81080" y="190476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Verdana"/>
                <a:ea typeface="굴림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Verdana"/>
                <a:ea typeface="굴림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Verdana"/>
                <a:ea typeface="굴림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05:06:43Z</dcterms:created>
  <dc:creator>SmileTemplates.com</dc:creator>
  <dc:description/>
  <dc:language>en-US</dc:language>
  <cp:lastModifiedBy>punsh</cp:lastModifiedBy>
  <dcterms:modified xsi:type="dcterms:W3CDTF">2019-07-28T08:59:18Z</dcterms:modified>
  <cp:revision>131</cp:revision>
  <dc:subject/>
  <dc:title>Название слайда</dc:title>
</cp:coreProperties>
</file>